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BF3-C3AD-4617-8511-185464CF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A45-F4AB-488D-B618-1B8F152C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0CE-D530-43FE-BDE7-D6BBE63C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FAE-A411-4323-92E0-9D5F058D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EF8-63D1-4A4F-95C3-7C65D336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35C-7EC5-4F72-BA60-C14DAA32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3CE-16A6-4C47-9178-14278836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EB4-78A8-4341-8281-9D0A54A0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17D-70A5-4F26-958A-6244297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0B7-9E31-43DE-B6DE-DFF74452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85C-8FC6-45BE-96E7-FA75DC0A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25A-1569-4F42-AC63-A8E6F98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0D8-1D02-4F4C-BF2E-C7B9742F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uesday 5/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371600"/>
            <a:ext cx="5181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py Teacher Appreciation Week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 maps? Turn in with Coup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ase turn in your ORANGE reflection questions (Dynastic vs. Commu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2720" y="1165320"/>
            <a:ext cx="3028680" cy="287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8862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896480" cy="689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HINA’S ROAD TO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8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A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Modern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12) Dynasty rule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12-1949)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49--?) Communist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81560" y="457200"/>
            <a:ext cx="4762440" cy="334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3962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inners” are ultimately the Communis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is mean for the Chinese peop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life change between the Dynastic and Communist e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896480" cy="689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ick 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393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e “shifting” and “wi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picture of a “shifting wi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“shifting wind” in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896480" cy="689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HIFTING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295280"/>
            <a:ext cx="6019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APH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of speech in which a word or phrase is applied to an object or action to which it is not literally appli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hing regarded as representative or symbolic of something else, esp. something abs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talitaria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 c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takes specific ingredients (such as a dynamic leader and control) to create the final product, a system of government. Everyone wants a slice of that power, but sometimes it can come back to haunt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248616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6934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 Assessment for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o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eras of Communism in China: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ynastic, Communist (Mao), Communist (Mod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tages of a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choose the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tative due date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riday, May 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e will have work time before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90440" y="-571680"/>
            <a:ext cx="9524880" cy="800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ifting Winds of Communis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S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ons – 15 minute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ODAY – Finish 3-4 stations out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m – Chinese Revolution (25 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Stations Thursday! IF YOU ARE ABSENT, check the Wiki to complete th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9:07:03Z</dcterms:created>
  <dc:creator>MCPASD</dc:creator>
  <dc:description/>
  <dc:language>en-US</dc:language>
  <cp:lastModifiedBy>MCPASD</cp:lastModifiedBy>
  <dcterms:modified xsi:type="dcterms:W3CDTF">2012-05-08T18:10:49Z</dcterms:modified>
  <cp:revision>51</cp:revision>
  <dc:subject/>
  <dc:title>CHINA’S ROAD TO COMMUNISM</dc:title>
</cp:coreProperties>
</file>